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AutoShape 2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AutoShape 2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AutoShape 2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AutoShape 2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AutoShape 2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AutoShape 2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AutoShape 2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AutoShape 2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AutoShape 2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AutoShape 3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AutoShape 3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AutoShape 3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AutoShape 3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3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3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3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3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3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4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4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4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4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4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4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4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4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4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5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5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5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AutoShape 5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AutoShape 5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AutoShape 5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AutoShape 5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AutoShape 57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AutoShape 58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AutoShape 59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60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AutoShape 6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AutoShape 6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AutoShape 6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AutoShape 6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Text Box 65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84616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ldImg"/>
          </p:nvPr>
        </p:nvSpPr>
        <p:spPr>
          <a:xfrm>
            <a:off x="869760" y="646200"/>
            <a:ext cx="49575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3373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DD0BC-1E9C-4ECF-85B8-0A0E530FC6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F01B9-1C67-4478-BC73-2A0C4E2803B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4E24B-61A7-43F2-BED3-6093E5BDB12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7303B-C22D-4017-BE5F-9BE0FC2AC8F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68320" y="64620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346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27C92-51F7-4763-A183-C981B3090F5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68320" y="64620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34672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054FAB-010C-4D0B-99DF-39ACBEA2BC5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83102-9C09-4151-9E79-58A752F826C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51CA-9255-4D6D-8A51-F4C826F2E4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3C07-18D2-4841-A8CF-03904B17F7B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1B7A7-AC1A-4404-9DE2-323D79B4F35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F3C9-D467-4CE9-93D8-100810F648E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C0349-D7A1-4094-A5EA-5CD8A9EDF6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0"/>
          <p:cNvSpPr/>
          <p:nvPr/>
        </p:nvSpPr>
        <p:spPr>
          <a:xfrm>
            <a:off x="3849840" y="9428040"/>
            <a:ext cx="28461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F3EA-5489-4010-82D0-02C382E050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66880" y="646200"/>
            <a:ext cx="4978440" cy="3735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35176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A975-21A7-46F4-8258-C27059810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280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11400"/>
            <a:ext cx="81280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0888-B247-490B-A56F-B6ED546B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24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114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22400" y="39114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A827-5B01-4AF6-A9EE-813EE12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05440" y="16002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3320" y="16002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114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05440" y="39114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3320" y="3911400"/>
            <a:ext cx="26168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0002D-A40E-4D28-B1E9-BE0F749550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1280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E2B4-111B-4D09-BF5C-9C003C9D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280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F5672-6FB5-4DEE-BD9F-601B55D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664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400" y="1600200"/>
            <a:ext cx="39664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1E05-1BAD-4985-B757-2DB0C665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07F6F-0C4C-4C9D-A66B-57595DFE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1280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7C18F-4761-4058-BEFA-F5058615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2400" y="1600200"/>
            <a:ext cx="39664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114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4D65-DE4A-4FF7-90F2-E29E683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664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24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22400" y="39114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E1A7-647D-44C7-9608-93397B8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2400" y="1600200"/>
            <a:ext cx="39664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11400"/>
            <a:ext cx="812808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21F0-AE1D-4997-8C52-83944EA6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1280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1280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0040"/>
            <a:ext cx="20318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0040"/>
            <a:ext cx="203220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5E585-359B-45C0-A228-4CC732F7F08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6632640"/>
            <a:ext cx="163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2"/>
          <a:stretch/>
        </p:blipFill>
        <p:spPr>
          <a:xfrm>
            <a:off x="7381800" y="260280"/>
            <a:ext cx="1535040" cy="15130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250920" y="5087880"/>
            <a:ext cx="1536480" cy="15130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0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1512720" cy="1536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1" descr=""/>
          <p:cNvPicPr/>
          <p:nvPr/>
        </p:nvPicPr>
        <p:blipFill>
          <a:blip r:embed="rId5"/>
          <a:stretch/>
        </p:blipFill>
        <p:spPr>
          <a:xfrm>
            <a:off x="7383600" y="5084640"/>
            <a:ext cx="1512720" cy="153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720720" y="720720"/>
            <a:ext cx="78217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cc3399"/>
                </a:solidFill>
                <a:latin typeface="Arno Pro Smbd"/>
              </a:rPr>
              <a:t>И Мой класс в числах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Arno Pro Smbd"/>
              </a:rPr>
              <a:t>4 клас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5759280" y="3780000"/>
            <a:ext cx="2479680" cy="253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1079640" y="1079640"/>
            <a:ext cx="3958920" cy="60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Проживают в трудной книжк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итроумные братишк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сять их, но братья эт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читают все на свете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Цифры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Пять котят песок копаю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и на солнце загораю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а купаются в золе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колько всех? Скажите мне.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                          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Десять</a:t>
            </a:r>
            <a:r>
              <a:rPr b="0" i="1" lang="ru-RU" sz="1000" spc="-1" strike="noStrike">
                <a:solidFill>
                  <a:srgbClr val="0000ff"/>
                </a:solidFill>
                <a:latin typeface="Calibri"/>
              </a:rPr>
              <a:t>) 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067360" y="1979640"/>
            <a:ext cx="33922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Восемь пар танцуют польку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 всех танцоров сколько?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Шестнадцать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Число, получаемое при сложении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Сумма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19280" y="179280"/>
            <a:ext cx="6048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6000"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Математические загад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40360" y="4859280"/>
            <a:ext cx="1260720" cy="12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042920" y="179280"/>
            <a:ext cx="66978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2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Игра «Прочитай-ка»</a:t>
            </a:r>
            <a:endParaRPr b="0" lang="en-US" sz="5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539640" y="1544760"/>
            <a:ext cx="809964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>
              <a:lnSpc>
                <a:spcPct val="93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  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            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А,   СМО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     У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          ХОЛ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А,  БО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БОР 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2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9640" y="3936960"/>
            <a:ext cx="80996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normAutofit fontScale="99000"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, смо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у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хол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, Бо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композитор и учёный-химик, Бо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- село, около которого в 1812 году произошло знаменитое сражение,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ово - город в Московской област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119640" y="2700360"/>
            <a:ext cx="254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t">
            <a:normAutofit/>
          </a:bodyPr>
          <a:p>
            <a:pPr>
              <a:lnSpc>
                <a:spcPct val="93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1"/>
          <p:cNvSpPr/>
          <p:nvPr/>
        </p:nvSpPr>
        <p:spPr>
          <a:xfrm>
            <a:off x="473040" y="2340000"/>
            <a:ext cx="816624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spcAft>
                <a:spcPts val="25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VII</a:t>
            </a:r>
            <a:r>
              <a:rPr b="0" lang="ru-RU" sz="4000" spc="-1" strike="noStrike">
                <a:solidFill>
                  <a:srgbClr val="000000"/>
                </a:solidFill>
                <a:latin typeface="Rockwell"/>
              </a:rPr>
              <a:t> Я                        ВО </a:t>
            </a: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Rockwell"/>
              </a:rPr>
              <a:t>, </a:t>
            </a: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5х8</a:t>
            </a:r>
            <a:r>
              <a:rPr b="0" lang="ru-RU" sz="4000" spc="-1" strike="noStrike">
                <a:solidFill>
                  <a:srgbClr val="000000"/>
                </a:solidFill>
                <a:latin typeface="Rockwell"/>
              </a:rPr>
              <a:t> А,  </a:t>
            </a: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    80:2</a:t>
            </a:r>
            <a:r>
              <a:rPr b="0" lang="ru-RU" sz="4000" spc="-1" strike="noStrike">
                <a:solidFill>
                  <a:srgbClr val="000000"/>
                </a:solidFill>
                <a:latin typeface="Rockwell"/>
              </a:rPr>
              <a:t> ОНОЖКА      </a:t>
            </a:r>
            <a:r>
              <a:rPr b="1" lang="ru-RU" sz="4000" spc="-1" strike="noStrike">
                <a:solidFill>
                  <a:srgbClr val="000000"/>
                </a:solidFill>
                <a:latin typeface="Rockwell"/>
              </a:rPr>
              <a:t>15+25</a:t>
            </a:r>
            <a:r>
              <a:rPr b="0" lang="ru-RU" sz="4000" spc="-1" strike="noStrike">
                <a:solidFill>
                  <a:srgbClr val="000000"/>
                </a:solidFill>
                <a:latin typeface="Rockwell"/>
              </a:rPr>
              <a:t> ОПУ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979640" y="0"/>
            <a:ext cx="575928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algn="ctr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Игра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«Прочитай-ка»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260360" y="4680000"/>
            <a:ext cx="755964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я, во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мь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, 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ножка,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ро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пут - птица отряда воробьиных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619280" y="0"/>
            <a:ext cx="61196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Задачи на смекалку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39640" y="846000"/>
            <a:ext cx="8099640" cy="61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ропинке идут 3 черных и 6 серых гусей, а на встречу им 1 серая и 1 белая утка. Сколько всего уток?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 ученика договорились сесть в 4 вагон электрички. Но 1 ученик сел в 4 вагон от начала электрички, а другой – в 4 от конца. В одном ли вагоне едут ученики, если всего 8 вагонов?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(нет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стройке забора плотники поставили по прямой 5 столбов, расстояние между которыми было по 2 метра. Какова длина забора?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(8 м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й мне 5 рублей, - говорит брат сестре, - тогда у нас будет денег поровну”. Сестра дала ему 5 рублей. На сколько больше денег было у сестры, чем у брата, сначала?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 (На 10 рублей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столе лежат 3 карандаша разной длины. Как удалить из середины самый длинный карандаш, не трогая его?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(Убрать крайние карандаши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ются 2 бидона ёмкостью 2 и 7 литров. Как с помощью этих бидонов набрать из речки 3 литра воды?  </a:t>
            </a:r>
            <a:r>
              <a:rPr b="0" i="1" lang="ru-RU" sz="1800" spc="-1" strike="noStrike">
                <a:solidFill>
                  <a:srgbClr val="0000ff"/>
                </a:solidFill>
                <a:latin typeface="Times New Roman"/>
              </a:rPr>
              <a:t>(Надо набрать бидон ёмкостью 7 литров и дважды вычерпать из него воды бидоном ёмкостью 2 литра.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1449360" y="179280"/>
            <a:ext cx="61102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Ребус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720720" y="1440000"/>
            <a:ext cx="7920000" cy="65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ПРО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</a:rPr>
              <a:t>100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Р 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С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  <a:ea typeface="Chalkduster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 ЖИ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</a:rPr>
              <a:t>5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,НИЦА     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ПРЕ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  <a:ea typeface="Chalkduster"/>
              </a:rPr>
              <a:t>100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 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АК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СА    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ПА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  <a:ea typeface="Chalkduster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 О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КИС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     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  <a:ea typeface="Chalkduster"/>
              </a:rPr>
              <a:t>100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 ЛБ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ПО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</a:rPr>
              <a:t> Л       </a:t>
            </a:r>
            <a:r>
              <a:rPr b="1" lang="ru-RU" sz="4000" spc="-1" strike="noStrike">
                <a:solidFill>
                  <a:srgbClr val="94006b"/>
                </a:solidFill>
                <a:latin typeface="Chalkduster"/>
                <a:ea typeface="Chalkduster"/>
              </a:rPr>
              <a:t>100</a:t>
            </a:r>
            <a:r>
              <a:rPr b="1" lang="ru-RU" sz="4000" spc="-1" strike="noStrike">
                <a:solidFill>
                  <a:srgbClr val="000000"/>
                </a:solidFill>
                <a:latin typeface="Chalkduster"/>
                <a:ea typeface="Chalkduster"/>
              </a:rPr>
              <a:t> ЛИЦ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2700360" y="179280"/>
            <a:ext cx="3600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Кроссворд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39640" y="1260360"/>
            <a:ext cx="7920000" cy="504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6659640" y="539640"/>
            <a:ext cx="1979640" cy="1440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900000" y="360360"/>
            <a:ext cx="719928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4006b"/>
                </a:solidFill>
                <a:latin typeface="Chalkduster"/>
              </a:rPr>
              <a:t>По горизонтал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1. Действие, обратное умножению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2. Знак, показывающий отсутствие единиц какого-либо разряд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3. Название знака действия вычита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4. Наименьшее однозначное число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94006b"/>
                </a:solidFill>
                <a:latin typeface="Chalkduster"/>
              </a:rPr>
              <a:t>По вертикали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5. Наименьшая единица времен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6. Число, выраженное единицей шестого разряда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halkduster"/>
              </a:rPr>
              <a:t>7. Фигура, ограниченная окружностью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</a:rPr>
              <a:t>Ответы: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Деление.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2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Нуль.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Минус.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4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Один.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5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Секунда.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6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Миллион.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7. </a:t>
            </a:r>
            <a:r>
              <a:rPr b="0" i="1" lang="en-US" sz="1400" spc="-1" strike="noStrike">
                <a:solidFill>
                  <a:srgbClr val="0000ff"/>
                </a:solidFill>
                <a:latin typeface="Times New Roman"/>
              </a:rPr>
              <a:t>Круг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1079640" y="34452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8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Назови слова на букву...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900000" y="1260360"/>
            <a:ext cx="755964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                            </a:t>
            </a:r>
            <a:r>
              <a:rPr b="1" lang="ru-RU" sz="1400" spc="-1" strike="noStrike">
                <a:solidFill>
                  <a:srgbClr val="b80047"/>
                </a:solidFill>
                <a:latin typeface="Chalkduster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Chalkduster"/>
              </a:rPr>
              <a:t>«Слова на букву «К»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Геометрическая фигура, четырехугольник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квадрат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1000 метров – это…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километр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1000 грамм – это …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 (килограмм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Наименьшая денежная единица в России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копейка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Устройство, облегчающее выполнение сложных арифметических действий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калькулятор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                           </a:t>
            </a:r>
            <a:r>
              <a:rPr b="1" lang="ru-RU" sz="1400" spc="-1" strike="noStrike">
                <a:solidFill>
                  <a:srgbClr val="b80047"/>
                </a:solidFill>
                <a:latin typeface="Chalkduster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Chalkduster"/>
              </a:rPr>
              <a:t>« Слова на букву «П»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Сумма длин всех сторон многоугольника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периметр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Геометрическая фигура, четырехугольник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прямоугольник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Результат умножения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произведение), </a:t>
            </a: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halkduster"/>
                <a:ea typeface="Chalkduster"/>
              </a:rPr>
              <a:t>Знак сложения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  <a:ea typeface="Chalkduster"/>
              </a:rPr>
              <a:t> (плюс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halkduster"/>
              </a:rPr>
              <a:t>Линия, не имеющая ни начала, ни конца </a:t>
            </a:r>
            <a:r>
              <a:rPr b="0" lang="ru-RU" sz="1400" spc="-1" strike="noStrike">
                <a:solidFill>
                  <a:srgbClr val="0000ff"/>
                </a:solidFill>
                <a:latin typeface="Chalkduster"/>
              </a:rPr>
              <a:t>(прямая)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2700360" y="179280"/>
            <a:ext cx="35971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Шарад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539640" y="1239840"/>
            <a:ext cx="8099640" cy="55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лог и малое число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ими букву скажем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 целом – ты найдёшь ег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под домом каждым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(По-два-л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ьмите наименьшее трехзначное числ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букву назовите рядом с ним одновременн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ы одно получите из слов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ым называют кучу сена.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(Сто-г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6480000" y="1474920"/>
            <a:ext cx="1619280" cy="15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539640" y="1440000"/>
            <a:ext cx="378000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приношу с собою боль,              В лице больного искаженье,         А “Ф” на “П” заменишь коль,       То превращаюсь в знак сложенья.    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Ф-люс – П-люс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буквой “Л” - в игре в футбол – Часто слышим слово…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 “Д” уж в слове смысл не тот –Мерой стало, Просто…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год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2411280" y="165240"/>
            <a:ext cx="352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Шарады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00720" y="1440000"/>
            <a:ext cx="40384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4000"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 нелюбимая оценка в дневнике, Из-за меня у школьников мрачнеет вся природа,Но если внутрь меня поставить “Е”, то среди женского я рода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Два – Дева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начала назови ты за городом дом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котором лишь летом семьёю живём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е буквы к названью приставь заодно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олучится то, что решать суждено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Дача – задача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720720" y="360360"/>
            <a:ext cx="755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1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b80047"/>
                </a:solidFill>
                <a:latin typeface="Arno Pro Smbd"/>
                <a:ea typeface="Arno Pro Smbd"/>
              </a:rPr>
              <a:t>Математические загад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00000" y="1260360"/>
            <a:ext cx="324036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Двенадцать братьев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 за другом ходя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руг друга не обходят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Месяцы.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На лесенке - стремянк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ешаны баранки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Щелк да щелк – пять да пять –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к мы учимся считать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Счеты.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4680000" y="1260360"/>
            <a:ext cx="34192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Черненькая, хвостатенькая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лает, не кусает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из класса в класс не пускает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(Двойка.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Отгадайте-ка, ребятки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за цифра-акробатка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на голову встанет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98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вно на три больше станет.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  <a:ea typeface="Calibri"/>
              </a:rPr>
              <a:t>(Шесть)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cp:lastPrinted>2024-12-20T06:07:51Z</cp:lastPrinted>
  <dcterms:modified xsi:type="dcterms:W3CDTF">2024-12-20T06:09:24Z</dcterms:modified>
  <cp:revision>13</cp:revision>
  <dc:subject/>
  <dc:title>МОУ Перхушковская оош</dc:title>
</cp:coreProperties>
</file>